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8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B6F-F39C-4CBB-A0C4-9AE820C9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00D-08B0-49C8-BA8C-11DDC408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171-F82F-417F-B925-F714852C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A9EE-F3E3-45A6-A172-2FB4F33F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E365-88C4-4319-B0D6-92930A54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87FC-8C1A-4643-A5E1-744B179A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DAB2-0953-4105-8D04-60F3340C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223B-1BD3-46AC-A7EB-BFA994F5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A0CC-6C06-4991-AB4F-DB6046BD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8021-AC0E-4DED-9A98-32842AC1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896D-BBA5-415F-9AA6-304E3AEA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B9E-C91E-4258-87A8-B3DEDDAE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6CE3-46AE-4C76-BD01-E864A273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7D4C-6478-4BC2-A609-5D9821FC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C1BF-4873-4BBD-8093-94A5090F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9928-C4B9-4195-AFC0-87305E90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1EC3-8809-4499-99B5-3402E12D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7B0-999A-4DF9-A470-675E13EE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803-79AD-49C9-9E43-51DEFB8D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F2A-5B5F-4C05-BBE8-75EF646E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A65-0D4A-4222-9989-939AC538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66A-5547-4228-8ADC-704B66B6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E00-453F-404E-A025-E085BD42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4D1-F6B7-4541-B912-CA23C20C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56CA-3E1F-40C2-BC0E-2A108FA4358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C4F9-0D41-487B-8367-F4DD7821B10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c41f3"/>
                </a:solidFill>
                <a:latin typeface="Curlz MT"/>
              </a:rPr>
              <a:t>Las</a:t>
            </a:r>
            <a:r>
              <a:rPr b="1" lang="en-US" sz="3600" spc="-1" strike="noStrike">
                <a:solidFill>
                  <a:srgbClr val="7c41f3"/>
                </a:solidFill>
                <a:latin typeface="Curlz MT"/>
              </a:rPr>
              <a:t> </a:t>
            </a:r>
            <a:r>
              <a:rPr b="1" lang="en-US" sz="8000" spc="-1" strike="noStrike">
                <a:solidFill>
                  <a:srgbClr val="7c41f3"/>
                </a:solidFill>
                <a:latin typeface="Curlz MT"/>
              </a:rPr>
              <a:t>Comidas</a:t>
            </a:r>
            <a:endParaRPr b="0" lang="en-US" sz="8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676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Papyrus"/>
              </a:rPr>
              <a:t>Por Madeline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Papyrus"/>
              </a:rPr>
              <a:t>Robertson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28600" y="4876920"/>
            <a:ext cx="1143000" cy="1726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Para el </a:t>
            </a:r>
            <a:r>
              <a:rPr b="0" lang="es-ES" sz="3600" spc="-1" strike="noStrike">
                <a:solidFill>
                  <a:srgbClr val="2f1311"/>
                </a:solidFill>
                <a:latin typeface="Arial"/>
              </a:rPr>
              <a:t>desayuno, me gusta comer...</a:t>
            </a:r>
            <a:r>
              <a:rPr b="0" lang="es-E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2124000" cy="2152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952880" y="1143000"/>
            <a:ext cx="2562480" cy="1790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105520" y="38098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105520" y="31240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os panquequ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49528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Un Chocolate calien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6172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"/>
              </a:rPr>
              <a:t>cantalup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152280" y="1371600"/>
            <a:ext cx="2505240" cy="1828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228600" y="4038480"/>
            <a:ext cx="2257560" cy="202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04920" y="3429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as fres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6248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Una manza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35ff"/>
            </a:gs>
            <a:gs pos="100000">
              <a:srgbClr val="7c41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3520" y="457200"/>
            <a:ext cx="6705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609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Para el almuerzo, me gusta comer…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47680" cy="2048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80880" y="3962520"/>
            <a:ext cx="2362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39625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"/>
              </a:rPr>
              <a:t>un sándwich de mantequilla de maní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2428920" cy="1886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838080" y="4876920"/>
            <a:ext cx="1006560" cy="1371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648320" y="3657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Goldfish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  <a:ea typeface="Arial"/>
              </a:rPr>
              <a:t>©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petardo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6248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Yogur de fres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6248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Una ensalad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638520" y="2205000"/>
            <a:ext cx="1866960" cy="2448000"/>
            <a:chOff x="3638520" y="2205000"/>
            <a:chExt cx="1866960" cy="2448000"/>
          </a:xfrm>
        </p:grpSpPr>
        <p:sp>
          <p:nvSpPr>
            <p:cNvPr id="217" name=""/>
            <p:cNvSpPr txBox="1"/>
            <p:nvPr/>
          </p:nvSpPr>
          <p:spPr>
            <a:xfrm>
              <a:off x="3638520" y="2205000"/>
              <a:ext cx="1866960" cy="24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2590920" y="2362320"/>
            <a:ext cx="1847880" cy="2466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666880" y="5029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El agu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280" y="4572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Para la cena, me gusta comer…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314880" y="2519280"/>
            <a:ext cx="2514600" cy="1819440"/>
            <a:chOff x="3314880" y="2519280"/>
            <a:chExt cx="2514600" cy="1819440"/>
          </a:xfrm>
        </p:grpSpPr>
        <p:sp>
          <p:nvSpPr>
            <p:cNvPr id="222" name=""/>
            <p:cNvSpPr txBox="1"/>
            <p:nvPr/>
          </p:nvSpPr>
          <p:spPr>
            <a:xfrm>
              <a:off x="3314880" y="2519280"/>
              <a:ext cx="2514600" cy="181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238120" cy="1676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2857680" cy="1600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5228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"/>
              </a:rPr>
              <a:t>El maíz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a piz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048120" y="1981080"/>
            <a:ext cx="1676160" cy="2238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048120" y="44197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Un lec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4648320" y="4343400"/>
            <a:ext cx="2619360" cy="1752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800600" y="6248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"/>
              </a:rPr>
              <a:t>Los pepino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304920" y="39625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04920" y="5943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Los </a:t>
            </a:r>
            <a:r>
              <a:rPr b="1" lang="es-ES" sz="1800" spc="-1" strike="noStrike">
                <a:solidFill>
                  <a:srgbClr val="2f1311"/>
                </a:solidFill>
                <a:latin typeface="Arial"/>
              </a:rPr>
              <a:t>macarrones con ques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2286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Para el postre, me gusta comer…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614760" y="2233440"/>
            <a:ext cx="1914480" cy="2391120"/>
            <a:chOff x="3614760" y="2233440"/>
            <a:chExt cx="1914480" cy="2391120"/>
          </a:xfrm>
        </p:grpSpPr>
        <p:sp>
          <p:nvSpPr>
            <p:cNvPr id="235" name=""/>
            <p:cNvSpPr txBox="1"/>
            <p:nvPr/>
          </p:nvSpPr>
          <p:spPr>
            <a:xfrm>
              <a:off x="3614760" y="2233440"/>
              <a:ext cx="1914480" cy="239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1784520" cy="2057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819520" y="213372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5257800" y="1219320"/>
            <a:ext cx="1857240" cy="2466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5105520" y="4038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228600" y="4419720"/>
            <a:ext cx="2362320" cy="1471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04920" y="3657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magdale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288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cac7"/>
                </a:solidFill>
                <a:latin typeface="Arial"/>
              </a:rPr>
              <a:t>El helad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6248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Las gallet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4800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f8c5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a6f8c5"/>
                </a:solidFill>
                <a:latin typeface="Arial"/>
              </a:rPr>
              <a:t>batido de lec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6019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b0fe"/>
                </a:solidFill>
                <a:latin typeface="Arial"/>
              </a:rPr>
              <a:t>browni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09:58Z</dcterms:created>
  <dc:creator>robertsonmad</dc:creator>
  <dc:description/>
  <dc:language>en-US</dc:language>
  <cp:lastModifiedBy>robertsonmad</cp:lastModifiedBy>
  <dcterms:modified xsi:type="dcterms:W3CDTF">2011-04-14T14:45:25Z</dcterms:modified>
  <cp:revision>4</cp:revision>
  <dc:subject/>
  <dc:title>Las Comidas</dc:title>
</cp:coreProperties>
</file>